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1E2A-478B-4F04-A58F-1EDBE31DF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B187-1B2F-4C89-9D39-82A64113D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4AD6CB-2D61-4EB6-86D9-E092D9EE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70A6CB-4D44-41B5-898B-0AB7A6E1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ED411B-B02E-4252-8935-62B904C9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9C5925-D0D5-4AAE-99E3-7CCC30CE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69725-DAD5-4C05-A68E-C936F3F9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2DC275-9A70-46A8-ADC9-7B11CA3C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0A2BB0-24C1-4B37-B674-AF95A12F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27174-6543-46C3-9BC6-51BD38413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CC0BA-7947-4F36-99E5-E2328683C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620E08-3E07-4CDE-9704-7672E3A52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B970-BDA7-4DAC-BF22-58140BEE1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9D06D0-44E7-4DAD-BB7C-4749373B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2CF34C-3FBF-46E0-801A-4521603F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94704C-3E09-4CA1-81EE-67AA33FD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168133-496A-4E0A-92E5-842D2C36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42161D-55E4-4118-A6F2-4C66F36A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AEDE19-009B-44D8-A396-DCF64572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8AF0D-2418-4218-B94F-65B0C83D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F26D83-9754-43EF-8029-0806D9E3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DD8794-213A-4588-A066-5026729B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DB8546-E4E1-4868-BF44-3DF160AF0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DE2F-6976-4FBC-84D5-089B0D181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24BA61-F106-4E06-8A60-A4AFA8D4C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F3ECC-5BB9-43A3-93B6-28544A956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D83EC-7A86-4E62-86A2-F5E9EB7F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E8BC8-3662-41F9-8E3F-69DAEC67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4A1B8-19F1-4752-8EFC-B1286713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22E200-6644-48CC-9686-28FEC8BF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85C41-647E-46BF-9FB0-198520C0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E62E1-969C-46E0-963C-833D1EA7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5E90B-7A00-4F6D-A746-FB5B265E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7267E-4925-46B2-9DA5-03A6A396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2045-796E-4773-9BA4-75D380618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78C8B-2EB0-4BEF-98DE-8A98C23E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F43C2-72D1-45DB-B137-6AE901BDF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90F467-2082-4A82-B173-18135D8AE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259932-29CC-469F-89C6-6F966AEFC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A345B2-4F5F-4FF6-B8E0-E72D8275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897F2A-1173-498E-9ED4-5025613B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FC8DE4-7D01-4582-B6F3-E4FB0A8A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DEBD36-E985-48A2-B10A-3082678F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A615BC-425F-4792-ACE5-2A2817EC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BB4E9F-BDF8-4019-AD4F-FB630510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E1D4-1D51-49D7-AA58-2F560F71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D8D4F5-46EA-4C8F-8418-1E68785F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5F4BD3-5808-402E-B99C-F1108E29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418082-E44C-47E0-92C0-E6F264C0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D65559-C677-4F90-ACD1-E85653824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A178DA-D111-4194-AD8E-F69544EA1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6BF5A7-6C7D-4FF2-AF9C-457518FCE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2F37A8-10D7-43FF-B46B-ABD6135B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09A738-9C30-4DD3-8B26-65D92515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6B134C-75AA-48D2-9FA9-CE5A3AE6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0BF866-8FB1-4544-9D01-2DFE4F42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16F6-0F53-403D-84F2-12F57C3E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570A1B-AE2A-4685-A998-09D6A03A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9B1525-EA9E-468C-ACCC-434A602C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F160D1-A258-4A65-A7D8-FC9E2A50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647FD1-A53A-4086-BB87-E2CCD72A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78ACD4-66B4-4A57-96D0-3028819A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27C457-5B73-4DFF-9D85-3B14D5DC8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A9AFD6-DB12-4EA5-B9BD-98FDD020D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C90FC6-4D70-4D55-AFBD-0D38F5083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ED0ACE-CC39-403F-B4B9-FE2C3E78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AB1814-A120-49E1-8676-FA37C97B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A374-9B33-4BD9-81B4-2E880FF5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A10A43-C42E-417C-926B-AEB6F00C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26645E-C653-4029-A5B0-8C164E5B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551DBC-411E-453E-BD97-3B933794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66E55C-1B15-47BC-A9CD-7A382F68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C2AD60-6BBB-4B54-ABFA-3531F3D7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3E092F-D87B-44EA-9A90-E9DA37AD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623BD4-BEE1-4C7A-9402-25450134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889921-5189-45C9-BEE4-F2BB5AE2F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8AD9E6-AC77-4711-8515-29E938B5A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707292-C592-4B59-8E47-2F51DD1B2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720D-F68F-42D1-89DF-586C4877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807307-E970-4949-8736-00853E62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4CE76F-3E05-4D8B-8E1C-C49FEFBC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4876D9-BD3E-437F-8256-8F849738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05ADA4-6305-43B7-A2F7-5CFE5855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640B32-48F0-478B-A15C-E889C5EC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8B800E-F7F6-43B0-9C61-180A2201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30CB48-77CD-443B-83E1-0A85684E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0C1132-50D3-4D70-BE00-C5604C45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549DE0-3285-424D-B068-3BAAA63A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026753-62A5-4B18-A36F-66993A86B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397B-50BD-41EE-8C95-C0A27019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4C3FA1-5480-4631-BFBB-2BD414A2C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74BAC9-F81E-4072-A719-13A7D25A1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E14155-A73A-4A07-ACCE-CEFDE34E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992E2C-FA40-4F6E-948E-3F3A390C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31C393-FCCD-4CC7-BF49-7381D87D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6F0651-8767-4687-90AE-BB2FA0F9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E07BE1-F463-4D7A-BDE0-827FD912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1A8718-5650-4A87-8D88-D23B72A0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D86FB8-43A7-47E9-A26C-6C58225E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2C8107-3C4B-49E8-9378-C390FF44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931D-894C-4E1C-892E-AFC883CC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3E9107-9448-48A9-9A49-AE0FCC9A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7C172A-48D5-4040-A2D1-AD768BF40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05A4B9-41F3-4288-BFCA-19149A56F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D75F6D-7480-4CF8-83B8-C549AD1C1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54FE05-D6BC-4B8F-B8B3-E114F12D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1DB3FF-3214-4289-AECC-78EFD2A9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AA58C1-B3F2-45EE-B3EC-52874023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FAE235-EE20-431F-AA07-979C62ED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B6AC5C-98C4-4375-9029-0C995F96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14CC83-16C3-4274-8E7C-79DD139D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F549-D967-4E26-8E23-4DCE1BC0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2C48-87A3-450A-BB95-08E3F86A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F00007-85E1-4562-99A5-88CD710D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64C142-CEB1-4B98-89F2-971777CD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6C7E3B-5A9F-4A76-86A9-FF0C2716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9F9333-2E29-42D5-B91F-34A6848E7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7E61B4-B938-4959-AEF3-95DB645E5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7DFCBF-8400-4EAB-8699-F0AE26EBA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1E4550-B14A-4DE6-A6E1-2CEA5452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8D43B6-49AD-44F9-B8B0-8C7F878C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351324-BCAC-49E1-929C-FA0F9B5D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7FB0BA-A9CB-4E26-8A21-000B9B1A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908D-5591-4424-A8F0-A1B4CBD3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10F572-D090-4B6B-8828-6BE5983F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4001B9-B840-457C-956A-D95A3472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FC30FA-E3F7-4C32-B75B-45B3BDBC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CF6868-D955-4546-9C11-4766B694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EC8EB8-9E29-4659-95D9-09FF47E1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B2E5C1-666F-4B71-BD64-30B5EE355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08065B-EA16-4118-9BF2-4488ED22D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571BA5-B30F-4CAC-AC46-A58C2A8BA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82BD4B-FE11-4FB8-818E-1E161C40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1C7A17-AA04-4B09-B352-43DCD21C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D596-779D-4106-9626-7593166E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129528-344A-4A02-8A94-0BC2F086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FCC716-7F73-4B57-A468-5413DD94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6CB535-69BB-4543-95E8-5112CFD0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3B4C55-0A98-4E4F-8DA3-2B1F6395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683861-1F3D-4D6A-9C9F-B961CD2E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ECFEC8-1014-4BC7-AE41-C4C5C3BD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271E1D-78CD-46F6-BE7A-35DB713E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73C8FC-E312-46B7-A412-1DA068EC2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BB1293-916D-4F02-A809-52ADACC4E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E74132-55FF-4152-A627-8ECBA5981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CD03-DF8F-4659-A597-F1B6E3869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91FEED-3A4C-46B5-BCD0-201F3A7E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57C111-7ABA-4013-8E38-311B2DAF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3DC78F-31E3-43C8-B457-82EA2EFE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4D039C-439F-467A-9D5B-82E55CBE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CD6099-3B57-47CC-A58C-0747C1A0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22696C-923F-4813-B54D-33CBF8C5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C96C66-BC0C-4AFB-B9F6-017A99F4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DC07D5-83DC-49CB-A5CD-813D3E7B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8A3011-E134-4CC0-9351-088A097C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0B9F6F-8F4D-409E-A229-35096DEC6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5F69-6FE0-4203-92A2-0EE2FEFF7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54F096-9EEE-4990-8836-D1CE5B403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F02BD1-5A6D-4E1D-8036-51C9DFE52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4814E5-B6F9-456C-A83D-1A1D6F7E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697928-B480-40C8-9310-AF97148F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612F14-B1DC-4BF4-8C8A-885840DD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CE8513-041B-4949-BCCE-120E814D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4A7429-2D4E-4E13-9083-8AD2BB60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CF31A5-790F-446A-96FC-C9790DB3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189FEB-AADF-461C-9F25-6AC34882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F83BD1-4109-45A2-A064-08CBBE78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22638-5A33-4203-98CD-057873DF4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912555-46DA-4C08-B584-AF106879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E0FEDC-5EA6-4EDC-864C-52CC30CAA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387BCC-96D7-4725-B63E-DA503697B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6DE97-E40E-4DCD-8EA7-B23BECBE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2D5D4-0611-46A7-B154-AA50FC13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01572-0271-471F-A276-9BD98A32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542DC-816E-47A3-BEA4-83FEFB00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80CD-F0DF-4580-86F4-688BF586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97740-461C-4A7E-BCF8-91CEA36D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B4249-B514-4DF6-999F-2E6F18E3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184A0-B18E-40C5-9091-0E3ED15C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A2C7C-F619-409F-8B44-65253BF9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40081-4374-40DD-9F3B-78133511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2A059-2E48-43E9-BC6B-C6D58BD7C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B4CAA-78A5-464B-95E6-2300190BC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AEAEA-8C75-4D47-982C-4E3FD41C5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9A4E5-3880-46ED-B16B-A2A87DDB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51E72-FDA3-484C-AA5F-2297EF8B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B4A6-6965-4048-B0D8-BFB65DD1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44709-5114-4101-A2FA-1D998DB7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0598C-6FDC-447F-B566-6D703FBB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D0EBC-9B33-4239-B992-C7496A1C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ADC9B-0104-466C-9F15-FADFE76E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EFA78-CA20-4311-B76B-070356EA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01EB7-3592-4A14-A4DD-21B7ED0E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0458F-2D37-4549-9C69-64087938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B8378-E550-4A1A-81D7-E43236262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3B27B-3257-4F96-91FD-97DAE3E1B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7AB57-81FC-40BB-A670-8481C1C80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1121-3288-44DA-ABC1-A421F5E9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D797C-719E-4FD3-9A36-C5EB0630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B1C69-B1C3-45C9-B968-59827F53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6205E-A445-4057-8351-7342FBDA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C80F5-4108-44F7-8173-B21C1637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84ECD-6361-4FC0-A87C-31DC8AFD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B710A-251C-4F52-8295-95AB08C3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5650B-41D1-428D-ABCE-D8EAFDDF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E904E-4B1C-4A03-B708-967BE763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58B2D-3818-45AC-96D7-3E42E53E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F68E5-A35B-4035-83C3-1CD69CC71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1303-DEED-440A-84D9-660E798F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EA39A-F65B-4222-9535-BCED023B6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44460-B832-48FB-977D-42F5B3DE2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E3D51-1AFF-466E-8B44-08CDCA56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FF9C3-251D-4966-9CCF-CC7B0824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D0AF1-AD12-45B1-BDCA-11265A9E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40BD3-E596-4E5F-923C-4815F5F0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DF6CB-4A55-4CEE-9684-FE0826B8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4408B-F9C8-4A65-906F-E1FC187D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0DCD2-2BE8-4656-B493-34D878E9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D53A5-406B-4C92-9BF0-F23E2F6B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688A-9354-4B9D-82A1-F023C8B6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96010-BD7D-4FA0-A61D-41F40794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CCC1B-4EDA-4463-8A93-2C354925B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96C8D-82E7-4583-B3FF-66B7087A5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6FF8A-022F-4AB9-AB6C-D1E8971C5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67C2A-22FC-4C12-9F3B-BDE0130C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BE1A7-841B-4881-B13B-F28C42C5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5950E-EF39-4191-8364-44B43694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81EC0-2011-4A24-BB1A-85C3AFDD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151C8-04BD-4746-8AE2-A7E2C50B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E109B-6AD6-42E8-9773-49BB299E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AE3A-1582-473E-B8AD-58820B17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835E6-ED56-4CF1-BE7D-8C985C80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032CB-4D1B-469B-8805-43E792D7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4DA01-1153-4C6F-B235-A344CC65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EAC2F-8ED1-4823-BBB1-EA9346AFE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C4873-D6EB-4CF8-8F7D-2D35B3521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F0860-0CC5-4803-BA10-CB9E21BB1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DCB0C-CF35-4526-82D9-0351D65D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9FA5C-FBC9-4C81-846A-3B082170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63EF3-821A-450C-BE51-2B59A7B7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3AFC4-E5CC-4AA4-A7AE-B1399C7A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9863-7D61-4818-9663-8B3D5F31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F1E72-0F70-4189-85E6-8C90FB39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F950E-C67C-436E-BB59-16C86097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6D068-BAD9-494F-A78C-517A8D48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A8C9D-D1D3-4A7C-A101-35EA6951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11A44-D93F-4095-AE5D-201351B5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222EB-4543-4EA3-AC04-EFE7A203E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C9E4E-C0B5-47A8-86E3-2E4053D6D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A2F684-D84A-4EE2-A896-6F39144A7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4E10D-5A67-4724-A2F1-B137A1EA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C735D-77A6-4B4E-A0B3-0D9662B5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1FFE-765A-4DEC-9DEE-0C98602CF7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E0DB-C78B-42FA-BD00-F0D8536898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5D75-BBD1-439B-8DEA-1AAD294234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3EB4-1BAD-4ECC-91D9-F6AA8885F7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4E58-1571-4992-AF43-17D3C20A40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FB2F-2D10-49DE-B66E-DC95C7909A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D61E-8C8E-4680-9625-5BD9940025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AEA7-C09C-41D8-8D8C-4D334ACA68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EE52-AC12-4AEE-8348-C8C02BA7B8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4CC2-4170-4A18-A873-FFB9A78E07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A70F-6B3B-4ECB-96A6-477C4B06CE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E4B1-DE34-4EF9-AE06-4A36C3B2B4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EE66-1D88-47C1-BBB1-15E0DF90C7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02F7-DFD7-46DD-9365-A4DEDCD3B6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AAAC-E490-4913-BEA0-DA7F1C0114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A8BB-DE53-4184-8260-D39CF3E2B2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0A00-1B44-44D1-9C42-85AEB1BB12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97CD-1C79-41FE-A8A6-15024323F1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08CA-1121-407A-BD0C-573DDBD72C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90E2-5925-4462-B487-ABE211AA1F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1906-8950-437A-8D6F-9D962830B8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E59F-AB98-4D78-9FF0-2A04A3DF51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9290-A2F5-4412-A172-4AF849DF4F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8ACB-099E-41A1-BA88-7D89F70F64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48DE-899F-40AA-BB3F-178A763829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D447-0372-41F8-8A5F-85B277DE50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38B4-179D-4931-B4E1-28BA833EAF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A67D-634C-4AF0-A98F-65DEAB9A5E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4FD5-C0E3-4FA7-901B-04241DD57F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CA26-922F-4CD1-AD7F-00EFDC69F8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7CF7-5FB0-4906-A137-1E28536C9D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1DB2-06B3-43F8-887B-D2FC3723A7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EB65-2079-4126-B05B-A61500C133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F13B-155C-4535-AC52-12CC6FD251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1DCA-532B-4451-8E3C-65BA498812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E614-AA05-4716-8299-2609A68E85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C6BE-C7AF-49B4-94F9-D645DDCB99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448D-E364-44A4-8DAD-ABD6E5CFE6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D814-1465-4A2D-BF98-790BF76968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8A83-C58C-47E2-A587-EA255A859A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8" descr=""/>
          <p:cNvPicPr/>
          <p:nvPr/>
        </p:nvPicPr>
        <p:blipFill>
          <a:blip r:embed="rId1"/>
          <a:stretch/>
        </p:blipFill>
        <p:spPr>
          <a:xfrm>
            <a:off x="76320" y="3048120"/>
            <a:ext cx="89913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图片 69633" descr=""/>
          <p:cNvPicPr/>
          <p:nvPr/>
        </p:nvPicPr>
        <p:blipFill>
          <a:blip r:embed="rId1"/>
          <a:stretch/>
        </p:blipFill>
        <p:spPr>
          <a:xfrm>
            <a:off x="1028880" y="1504800"/>
            <a:ext cx="7086600" cy="384840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2"/>
          <a:stretch/>
        </p:blipFill>
        <p:spPr>
          <a:xfrm>
            <a:off x="826920" y="2550960"/>
            <a:ext cx="7561440" cy="8780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3"/>
          <a:stretch/>
        </p:blipFill>
        <p:spPr>
          <a:xfrm>
            <a:off x="971640" y="3500280"/>
            <a:ext cx="7561080" cy="8780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4"/>
          <a:stretch/>
        </p:blipFill>
        <p:spPr>
          <a:xfrm>
            <a:off x="971640" y="4581360"/>
            <a:ext cx="756108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图片 68609" descr=""/>
          <p:cNvPicPr/>
          <p:nvPr/>
        </p:nvPicPr>
        <p:blipFill>
          <a:blip r:embed="rId1"/>
          <a:stretch/>
        </p:blipFill>
        <p:spPr>
          <a:xfrm>
            <a:off x="785880" y="657360"/>
            <a:ext cx="7572240" cy="55432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2"/>
          <a:stretch/>
        </p:blipFill>
        <p:spPr>
          <a:xfrm>
            <a:off x="1116000" y="2205000"/>
            <a:ext cx="5400720" cy="4762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3"/>
          <a:stretch/>
        </p:blipFill>
        <p:spPr>
          <a:xfrm>
            <a:off x="971640" y="2781360"/>
            <a:ext cx="5400720" cy="4762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4"/>
          <a:stretch/>
        </p:blipFill>
        <p:spPr>
          <a:xfrm>
            <a:off x="1042920" y="3357720"/>
            <a:ext cx="5400720" cy="4759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5"/>
          <a:stretch/>
        </p:blipFill>
        <p:spPr>
          <a:xfrm>
            <a:off x="1042920" y="3933720"/>
            <a:ext cx="5400720" cy="4762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6"/>
          <a:stretch/>
        </p:blipFill>
        <p:spPr>
          <a:xfrm>
            <a:off x="1116000" y="4508640"/>
            <a:ext cx="5400720" cy="4762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7"/>
          <a:stretch/>
        </p:blipFill>
        <p:spPr>
          <a:xfrm>
            <a:off x="1187280" y="5084640"/>
            <a:ext cx="5400720" cy="4762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8"/>
          <a:stretch/>
        </p:blipFill>
        <p:spPr>
          <a:xfrm>
            <a:off x="1116000" y="5661000"/>
            <a:ext cx="54007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图片 67585" descr=""/>
          <p:cNvPicPr/>
          <p:nvPr/>
        </p:nvPicPr>
        <p:blipFill>
          <a:blip r:embed="rId1"/>
          <a:stretch/>
        </p:blipFill>
        <p:spPr>
          <a:xfrm>
            <a:off x="771480" y="1776240"/>
            <a:ext cx="7601040" cy="330552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2"/>
          <a:stretch/>
        </p:blipFill>
        <p:spPr>
          <a:xfrm>
            <a:off x="611280" y="2795760"/>
            <a:ext cx="7129440" cy="4759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3"/>
          <a:stretch/>
        </p:blipFill>
        <p:spPr>
          <a:xfrm>
            <a:off x="611280" y="3357720"/>
            <a:ext cx="7129440" cy="47592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4"/>
          <a:stretch/>
        </p:blipFill>
        <p:spPr>
          <a:xfrm>
            <a:off x="684360" y="3948120"/>
            <a:ext cx="7848360" cy="4762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5"/>
          <a:stretch/>
        </p:blipFill>
        <p:spPr>
          <a:xfrm>
            <a:off x="684360" y="4522680"/>
            <a:ext cx="7848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图片 66561" descr=""/>
          <p:cNvPicPr/>
          <p:nvPr/>
        </p:nvPicPr>
        <p:blipFill>
          <a:blip r:embed="rId1"/>
          <a:stretch/>
        </p:blipFill>
        <p:spPr>
          <a:xfrm>
            <a:off x="268200" y="189000"/>
            <a:ext cx="8696520" cy="615312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2"/>
          <a:stretch/>
        </p:blipFill>
        <p:spPr>
          <a:xfrm>
            <a:off x="826920" y="3516480"/>
            <a:ext cx="8066160" cy="92052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3"/>
          <a:stretch/>
        </p:blipFill>
        <p:spPr>
          <a:xfrm>
            <a:off x="611280" y="4508640"/>
            <a:ext cx="8066160" cy="92052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4"/>
          <a:stretch/>
        </p:blipFill>
        <p:spPr>
          <a:xfrm>
            <a:off x="755640" y="5516640"/>
            <a:ext cx="806616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图片 65537" descr=""/>
          <p:cNvPicPr/>
          <p:nvPr/>
        </p:nvPicPr>
        <p:blipFill>
          <a:blip r:embed="rId1"/>
          <a:stretch/>
        </p:blipFill>
        <p:spPr>
          <a:xfrm>
            <a:off x="647640" y="866880"/>
            <a:ext cx="7848720" cy="551484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2"/>
          <a:stretch/>
        </p:blipFill>
        <p:spPr>
          <a:xfrm>
            <a:off x="539640" y="879480"/>
            <a:ext cx="7345440" cy="47628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3"/>
          <a:stretch/>
        </p:blipFill>
        <p:spPr>
          <a:xfrm>
            <a:off x="539640" y="1484280"/>
            <a:ext cx="7345440" cy="4762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4"/>
          <a:stretch/>
        </p:blipFill>
        <p:spPr>
          <a:xfrm>
            <a:off x="539640" y="2003400"/>
            <a:ext cx="7345440" cy="47628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5"/>
          <a:stretch/>
        </p:blipFill>
        <p:spPr>
          <a:xfrm>
            <a:off x="511200" y="2665440"/>
            <a:ext cx="3456000" cy="162720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6"/>
          <a:stretch/>
        </p:blipFill>
        <p:spPr>
          <a:xfrm>
            <a:off x="3995640" y="3184560"/>
            <a:ext cx="4537080" cy="47628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7"/>
          <a:stretch/>
        </p:blipFill>
        <p:spPr>
          <a:xfrm>
            <a:off x="539640" y="4424400"/>
            <a:ext cx="7920000" cy="87624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8"/>
          <a:stretch/>
        </p:blipFill>
        <p:spPr>
          <a:xfrm>
            <a:off x="539640" y="5445000"/>
            <a:ext cx="7920000" cy="8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8" name="组合 64515"/>
          <p:cNvGrpSpPr/>
          <p:nvPr/>
        </p:nvGrpSpPr>
        <p:grpSpPr>
          <a:xfrm>
            <a:off x="179280" y="1341360"/>
            <a:ext cx="8624880" cy="3952800"/>
            <a:chOff x="179280" y="1341360"/>
            <a:chExt cx="8624880" cy="3952800"/>
          </a:xfrm>
        </p:grpSpPr>
        <p:pic>
          <p:nvPicPr>
            <p:cNvPr id="1079" name="图片 64513" descr=""/>
            <p:cNvPicPr/>
            <p:nvPr/>
          </p:nvPicPr>
          <p:blipFill>
            <a:blip r:embed="rId1"/>
            <a:stretch/>
          </p:blipFill>
          <p:spPr>
            <a:xfrm>
              <a:off x="179280" y="1341360"/>
              <a:ext cx="8620200" cy="16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0" name="图片 64514" descr=""/>
            <p:cNvPicPr/>
            <p:nvPr/>
          </p:nvPicPr>
          <p:blipFill>
            <a:blip r:embed="rId2"/>
            <a:stretch/>
          </p:blipFill>
          <p:spPr>
            <a:xfrm>
              <a:off x="784080" y="3112920"/>
              <a:ext cx="8020080" cy="2181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1" name="图片 63489" descr=""/>
          <p:cNvPicPr/>
          <p:nvPr/>
        </p:nvPicPr>
        <p:blipFill>
          <a:blip r:embed="rId1"/>
          <a:stretch/>
        </p:blipFill>
        <p:spPr>
          <a:xfrm>
            <a:off x="528480" y="1490760"/>
            <a:ext cx="8087040" cy="387648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2"/>
          <a:stretch/>
        </p:blipFill>
        <p:spPr>
          <a:xfrm>
            <a:off x="250920" y="1512720"/>
            <a:ext cx="8353440" cy="47628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3"/>
          <a:stretch/>
        </p:blipFill>
        <p:spPr>
          <a:xfrm>
            <a:off x="539640" y="2075040"/>
            <a:ext cx="8353440" cy="47592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4"/>
          <a:stretch/>
        </p:blipFill>
        <p:spPr>
          <a:xfrm>
            <a:off x="539640" y="2708280"/>
            <a:ext cx="5112000" cy="7920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" descr=""/>
          <p:cNvPicPr/>
          <p:nvPr/>
        </p:nvPicPr>
        <p:blipFill>
          <a:blip r:embed="rId5"/>
          <a:stretch/>
        </p:blipFill>
        <p:spPr>
          <a:xfrm>
            <a:off x="5651640" y="2881440"/>
            <a:ext cx="3168360" cy="47628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" descr=""/>
          <p:cNvPicPr/>
          <p:nvPr/>
        </p:nvPicPr>
        <p:blipFill>
          <a:blip r:embed="rId6"/>
          <a:stretch/>
        </p:blipFill>
        <p:spPr>
          <a:xfrm>
            <a:off x="1000080" y="3645000"/>
            <a:ext cx="1224000" cy="47628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7"/>
          <a:stretch/>
        </p:blipFill>
        <p:spPr>
          <a:xfrm>
            <a:off x="2254320" y="3645000"/>
            <a:ext cx="5773680" cy="47628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8"/>
          <a:stretch/>
        </p:blipFill>
        <p:spPr>
          <a:xfrm>
            <a:off x="826920" y="4221000"/>
            <a:ext cx="5774040" cy="47628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9"/>
          <a:stretch/>
        </p:blipFill>
        <p:spPr>
          <a:xfrm>
            <a:off x="826920" y="4797360"/>
            <a:ext cx="756144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0" name="图片 62465" descr=""/>
          <p:cNvPicPr/>
          <p:nvPr/>
        </p:nvPicPr>
        <p:blipFill>
          <a:blip r:embed="rId1"/>
          <a:stretch/>
        </p:blipFill>
        <p:spPr>
          <a:xfrm>
            <a:off x="262080" y="123840"/>
            <a:ext cx="8619840" cy="66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1" name="图片 61441" descr=""/>
          <p:cNvPicPr/>
          <p:nvPr/>
        </p:nvPicPr>
        <p:blipFill>
          <a:blip r:embed="rId1"/>
          <a:stretch/>
        </p:blipFill>
        <p:spPr>
          <a:xfrm>
            <a:off x="576360" y="731880"/>
            <a:ext cx="7991280" cy="601020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1" descr=""/>
          <p:cNvPicPr/>
          <p:nvPr/>
        </p:nvPicPr>
        <p:blipFill>
          <a:blip r:embed="rId2"/>
          <a:stretch/>
        </p:blipFill>
        <p:spPr>
          <a:xfrm>
            <a:off x="395280" y="720720"/>
            <a:ext cx="8353440" cy="47628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1" descr=""/>
          <p:cNvPicPr/>
          <p:nvPr/>
        </p:nvPicPr>
        <p:blipFill>
          <a:blip r:embed="rId3"/>
          <a:stretch/>
        </p:blipFill>
        <p:spPr>
          <a:xfrm>
            <a:off x="324000" y="1355760"/>
            <a:ext cx="8353440" cy="84924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1" descr=""/>
          <p:cNvPicPr/>
          <p:nvPr/>
        </p:nvPicPr>
        <p:blipFill>
          <a:blip r:embed="rId4"/>
          <a:stretch/>
        </p:blipFill>
        <p:spPr>
          <a:xfrm>
            <a:off x="0" y="2305080"/>
            <a:ext cx="5076720" cy="126828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1" descr=""/>
          <p:cNvPicPr/>
          <p:nvPr/>
        </p:nvPicPr>
        <p:blipFill>
          <a:blip r:embed="rId5"/>
          <a:stretch/>
        </p:blipFill>
        <p:spPr>
          <a:xfrm>
            <a:off x="5076720" y="2521080"/>
            <a:ext cx="2087640" cy="47628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1" descr=""/>
          <p:cNvPicPr/>
          <p:nvPr/>
        </p:nvPicPr>
        <p:blipFill>
          <a:blip r:embed="rId6"/>
          <a:stretch/>
        </p:blipFill>
        <p:spPr>
          <a:xfrm>
            <a:off x="7236000" y="2506680"/>
            <a:ext cx="1908000" cy="47628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1" descr=""/>
          <p:cNvPicPr/>
          <p:nvPr/>
        </p:nvPicPr>
        <p:blipFill>
          <a:blip r:embed="rId7"/>
          <a:stretch/>
        </p:blipFill>
        <p:spPr>
          <a:xfrm>
            <a:off x="324000" y="3919680"/>
            <a:ext cx="6840360" cy="47628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1" descr=""/>
          <p:cNvPicPr/>
          <p:nvPr/>
        </p:nvPicPr>
        <p:blipFill>
          <a:blip r:embed="rId8"/>
          <a:stretch/>
        </p:blipFill>
        <p:spPr>
          <a:xfrm>
            <a:off x="7221600" y="3789360"/>
            <a:ext cx="1908000" cy="79200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1" descr=""/>
          <p:cNvPicPr/>
          <p:nvPr/>
        </p:nvPicPr>
        <p:blipFill>
          <a:blip r:embed="rId9"/>
          <a:stretch/>
        </p:blipFill>
        <p:spPr>
          <a:xfrm>
            <a:off x="395280" y="4738680"/>
            <a:ext cx="3456000" cy="79200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1" descr=""/>
          <p:cNvPicPr/>
          <p:nvPr/>
        </p:nvPicPr>
        <p:blipFill>
          <a:blip r:embed="rId10"/>
          <a:stretch/>
        </p:blipFill>
        <p:spPr>
          <a:xfrm>
            <a:off x="324000" y="5661000"/>
            <a:ext cx="8353440" cy="47628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1" descr=""/>
          <p:cNvPicPr/>
          <p:nvPr/>
        </p:nvPicPr>
        <p:blipFill>
          <a:blip r:embed="rId11"/>
          <a:stretch/>
        </p:blipFill>
        <p:spPr>
          <a:xfrm>
            <a:off x="250920" y="6310440"/>
            <a:ext cx="835344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1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6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1" dur="1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0" dur="1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5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0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5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2" name="图片 70657" descr=""/>
          <p:cNvPicPr/>
          <p:nvPr/>
        </p:nvPicPr>
        <p:blipFill>
          <a:blip r:embed="rId1"/>
          <a:stretch/>
        </p:blipFill>
        <p:spPr>
          <a:xfrm>
            <a:off x="514440" y="2076480"/>
            <a:ext cx="8115120" cy="270504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1" descr=""/>
          <p:cNvPicPr/>
          <p:nvPr/>
        </p:nvPicPr>
        <p:blipFill>
          <a:blip r:embed="rId2"/>
          <a:stretch/>
        </p:blipFill>
        <p:spPr>
          <a:xfrm>
            <a:off x="539640" y="2089080"/>
            <a:ext cx="8136000" cy="47628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1" descr=""/>
          <p:cNvPicPr/>
          <p:nvPr/>
        </p:nvPicPr>
        <p:blipFill>
          <a:blip r:embed="rId3"/>
          <a:stretch/>
        </p:blipFill>
        <p:spPr>
          <a:xfrm>
            <a:off x="468360" y="2708280"/>
            <a:ext cx="2519280" cy="79200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1" descr=""/>
          <p:cNvPicPr/>
          <p:nvPr/>
        </p:nvPicPr>
        <p:blipFill>
          <a:blip r:embed="rId4"/>
          <a:stretch/>
        </p:blipFill>
        <p:spPr>
          <a:xfrm>
            <a:off x="2987640" y="2708280"/>
            <a:ext cx="5688000" cy="79200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1" descr=""/>
          <p:cNvPicPr/>
          <p:nvPr/>
        </p:nvPicPr>
        <p:blipFill>
          <a:blip r:embed="rId5"/>
          <a:stretch/>
        </p:blipFill>
        <p:spPr>
          <a:xfrm>
            <a:off x="250920" y="3645000"/>
            <a:ext cx="1512720" cy="47628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1" descr=""/>
          <p:cNvPicPr/>
          <p:nvPr/>
        </p:nvPicPr>
        <p:blipFill>
          <a:blip r:embed="rId6"/>
          <a:stretch/>
        </p:blipFill>
        <p:spPr>
          <a:xfrm>
            <a:off x="1763640" y="3659040"/>
            <a:ext cx="3745080" cy="47628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7"/>
          <a:stretch/>
        </p:blipFill>
        <p:spPr>
          <a:xfrm>
            <a:off x="324000" y="4235400"/>
            <a:ext cx="59767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2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6" dur="1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1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5" dur="1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0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5" dur="1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60428" descr=""/>
          <p:cNvPicPr/>
          <p:nvPr/>
        </p:nvPicPr>
        <p:blipFill>
          <a:blip r:embed="rId1"/>
          <a:stretch/>
        </p:blipFill>
        <p:spPr>
          <a:xfrm>
            <a:off x="200160" y="781200"/>
            <a:ext cx="8743680" cy="529560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7956720" y="2349360"/>
            <a:ext cx="576000" cy="4762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7956720" y="4221000"/>
            <a:ext cx="5760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图片 59410" descr=""/>
          <p:cNvPicPr/>
          <p:nvPr/>
        </p:nvPicPr>
        <p:blipFill>
          <a:blip r:embed="rId1"/>
          <a:stretch/>
        </p:blipFill>
        <p:spPr>
          <a:xfrm>
            <a:off x="247680" y="1095480"/>
            <a:ext cx="8648640" cy="46670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2"/>
          <a:stretch/>
        </p:blipFill>
        <p:spPr>
          <a:xfrm>
            <a:off x="8101080" y="1413000"/>
            <a:ext cx="576360" cy="4762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3"/>
          <a:stretch/>
        </p:blipFill>
        <p:spPr>
          <a:xfrm>
            <a:off x="8028000" y="3659040"/>
            <a:ext cx="576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58373" descr=""/>
          <p:cNvPicPr/>
          <p:nvPr/>
        </p:nvPicPr>
        <p:blipFill>
          <a:blip r:embed="rId1"/>
          <a:stretch/>
        </p:blipFill>
        <p:spPr>
          <a:xfrm>
            <a:off x="219240" y="595440"/>
            <a:ext cx="8705520" cy="5667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2"/>
          <a:stretch/>
        </p:blipFill>
        <p:spPr>
          <a:xfrm>
            <a:off x="7956720" y="4610160"/>
            <a:ext cx="5760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图片 57352" descr=""/>
          <p:cNvPicPr/>
          <p:nvPr/>
        </p:nvPicPr>
        <p:blipFill>
          <a:blip r:embed="rId1"/>
          <a:stretch/>
        </p:blipFill>
        <p:spPr>
          <a:xfrm>
            <a:off x="252360" y="1085760"/>
            <a:ext cx="8639280" cy="4686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2"/>
          <a:stretch/>
        </p:blipFill>
        <p:spPr>
          <a:xfrm>
            <a:off x="8028000" y="1628640"/>
            <a:ext cx="576360" cy="4762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3"/>
          <a:stretch/>
        </p:blipFill>
        <p:spPr>
          <a:xfrm>
            <a:off x="7956720" y="3573360"/>
            <a:ext cx="5760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4" name="组合 56326"/>
          <p:cNvGrpSpPr/>
          <p:nvPr/>
        </p:nvGrpSpPr>
        <p:grpSpPr>
          <a:xfrm>
            <a:off x="324000" y="71280"/>
            <a:ext cx="7993080" cy="6611760"/>
            <a:chOff x="324000" y="71280"/>
            <a:chExt cx="7993080" cy="6611760"/>
          </a:xfrm>
        </p:grpSpPr>
        <p:pic>
          <p:nvPicPr>
            <p:cNvPr id="1035" name="图片 56324" descr=""/>
            <p:cNvPicPr/>
            <p:nvPr/>
          </p:nvPicPr>
          <p:blipFill>
            <a:blip r:embed="rId1"/>
            <a:stretch/>
          </p:blipFill>
          <p:spPr>
            <a:xfrm>
              <a:off x="324000" y="71280"/>
              <a:ext cx="7993080" cy="254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6" name="图片 56325" descr=""/>
            <p:cNvPicPr/>
            <p:nvPr/>
          </p:nvPicPr>
          <p:blipFill>
            <a:blip r:embed="rId2"/>
            <a:stretch/>
          </p:blipFill>
          <p:spPr>
            <a:xfrm>
              <a:off x="658800" y="2647800"/>
              <a:ext cx="7621200" cy="4035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7451640" y="2637000"/>
            <a:ext cx="576360" cy="47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图片 55300" descr=""/>
          <p:cNvPicPr/>
          <p:nvPr/>
        </p:nvPicPr>
        <p:blipFill>
          <a:blip r:embed="rId1"/>
          <a:stretch/>
        </p:blipFill>
        <p:spPr>
          <a:xfrm>
            <a:off x="219240" y="701640"/>
            <a:ext cx="8705520" cy="58960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2"/>
          <a:stretch/>
        </p:blipFill>
        <p:spPr>
          <a:xfrm>
            <a:off x="3419640" y="2190600"/>
            <a:ext cx="576000" cy="9367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3"/>
          <a:stretch/>
        </p:blipFill>
        <p:spPr>
          <a:xfrm>
            <a:off x="1692360" y="5573880"/>
            <a:ext cx="187164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图片 54276" descr=""/>
          <p:cNvPicPr/>
          <p:nvPr/>
        </p:nvPicPr>
        <p:blipFill>
          <a:blip r:embed="rId1"/>
          <a:stretch/>
        </p:blipFill>
        <p:spPr>
          <a:xfrm>
            <a:off x="281160" y="914400"/>
            <a:ext cx="8581680" cy="502920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5133960" y="907920"/>
            <a:ext cx="576360" cy="8654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3"/>
          <a:stretch/>
        </p:blipFill>
        <p:spPr>
          <a:xfrm>
            <a:off x="6588000" y="1859040"/>
            <a:ext cx="576360" cy="8650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4"/>
          <a:stretch/>
        </p:blipFill>
        <p:spPr>
          <a:xfrm>
            <a:off x="7596360" y="2651040"/>
            <a:ext cx="1296720" cy="8654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5"/>
          <a:stretch/>
        </p:blipFill>
        <p:spPr>
          <a:xfrm>
            <a:off x="900000" y="3846600"/>
            <a:ext cx="935280" cy="4762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6"/>
          <a:stretch/>
        </p:blipFill>
        <p:spPr>
          <a:xfrm>
            <a:off x="5076720" y="5416560"/>
            <a:ext cx="24480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图片 52231" descr=""/>
          <p:cNvPicPr/>
          <p:nvPr/>
        </p:nvPicPr>
        <p:blipFill>
          <a:blip r:embed="rId1"/>
          <a:stretch/>
        </p:blipFill>
        <p:spPr>
          <a:xfrm>
            <a:off x="766800" y="1990800"/>
            <a:ext cx="7610400" cy="287640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2"/>
          <a:stretch/>
        </p:blipFill>
        <p:spPr>
          <a:xfrm>
            <a:off x="1116000" y="4206960"/>
            <a:ext cx="71280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2T10:20:42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